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6.png" ContentType="image/png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1DB-D584-4683-9DD4-748E961C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96B-9B12-47FE-90A1-FE3A521F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9A0-35FB-41CD-89CF-04F8454D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25E-C655-4614-80FD-160FACAC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B7E-C371-4616-93EB-0A7C4494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A64-8519-41E7-A791-E86F758E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13E-76A0-44EA-B475-CC1593D2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4F3-3715-4460-B8A2-C248579B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80B-2F0A-4BC2-B680-BC4FBED9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90F3-DE8B-4B70-AA9A-C1A0EA00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52D-7831-4E2A-AAEC-DA803065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B01-3AB7-47CC-937F-B41FD602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6348-42F3-4DAE-9134-D7F65D6C3C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10.gif"/><Relationship Id="rId19" Type="http://schemas.openxmlformats.org/officeDocument/2006/relationships/image" Target="../media/image10.gif"/><Relationship Id="rId20" Type="http://schemas.openxmlformats.org/officeDocument/2006/relationships/image" Target="../media/image10.gif"/><Relationship Id="rId21" Type="http://schemas.openxmlformats.org/officeDocument/2006/relationships/image" Target="../media/image10.gif"/><Relationship Id="rId22" Type="http://schemas.openxmlformats.org/officeDocument/2006/relationships/image" Target="../media/image10.gif"/><Relationship Id="rId23" Type="http://schemas.openxmlformats.org/officeDocument/2006/relationships/image" Target="../media/image10.gif"/><Relationship Id="rId24" Type="http://schemas.openxmlformats.org/officeDocument/2006/relationships/image" Target="../media/image10.gif"/><Relationship Id="rId25" Type="http://schemas.openxmlformats.org/officeDocument/2006/relationships/image" Target="../media/image10.gif"/><Relationship Id="rId26" Type="http://schemas.openxmlformats.org/officeDocument/2006/relationships/image" Target="../media/image10.gif"/><Relationship Id="rId27" Type="http://schemas.openxmlformats.org/officeDocument/2006/relationships/image" Target="../media/image10.gif"/><Relationship Id="rId28" Type="http://schemas.openxmlformats.org/officeDocument/2006/relationships/image" Target="../media/image10.gif"/><Relationship Id="rId29" Type="http://schemas.openxmlformats.org/officeDocument/2006/relationships/image" Target="../media/image10.gif"/><Relationship Id="rId30" Type="http://schemas.openxmlformats.org/officeDocument/2006/relationships/image" Target="../media/image10.gif"/><Relationship Id="rId31" Type="http://schemas.openxmlformats.org/officeDocument/2006/relationships/image" Target="../media/image10.gif"/><Relationship Id="rId32" Type="http://schemas.openxmlformats.org/officeDocument/2006/relationships/image" Target="../media/image10.gif"/><Relationship Id="rId33" Type="http://schemas.openxmlformats.org/officeDocument/2006/relationships/image" Target="../media/image10.gif"/><Relationship Id="rId34" Type="http://schemas.openxmlformats.org/officeDocument/2006/relationships/image" Target="../media/image10.gif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676520"/>
            <a:ext cx="761976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nstantia"/>
              </a:rPr>
              <a:t>Welcome to my class</a:t>
            </a:r>
            <a:endParaRPr b="1" lang="en-US" sz="4400" spc="1" strike="noStrike">
              <a:ln w="12600">
                <a:solidFill>
                  <a:srgbClr val="99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09480" y="685800"/>
            <a:ext cx="4267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Practice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514600"/>
            <a:ext cx="80769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当你跳了一天舞，没有休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 会觉得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3505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ti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47242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当你 看到父母为你 买的生日礼物时，你 会觉得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5410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happ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380880"/>
            <a:ext cx="8458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当你的很多朋友不理你时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你会觉得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1295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 Black"/>
              </a:rPr>
              <a:t>sa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590920"/>
            <a:ext cx="8763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当你冬天穿的薄衣服走在路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你会觉得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34290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 Black"/>
              </a:rPr>
              <a:t>col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4648320"/>
            <a:ext cx="8991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当你在夏天的中午走在路上时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你会觉得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54864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 Black"/>
              </a:rPr>
              <a:t>ho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28600"/>
            <a:ext cx="601992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sson and 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peat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0880" y="304920"/>
            <a:ext cx="67057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nsolas"/>
              </a:rPr>
              <a:t>Pairs of the work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nsolas"/>
              <a:ea typeface="Consolas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8862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有感情朗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1905120"/>
            <a:ext cx="8001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Estrangelo Edessa"/>
              </a:rPr>
              <a:t>Let's sing a song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Estrangelo Edessa"/>
              <a:ea typeface="Estrangelo Edess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95280" y="838080"/>
            <a:ext cx="65534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nstantia"/>
              </a:rPr>
              <a:t>Thank  you 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3657600"/>
            <a:ext cx="2668680" cy="289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48120" y="3733920"/>
            <a:ext cx="197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9880" y="2133720"/>
            <a:ext cx="4648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Leelawadee"/>
              </a:rPr>
              <a:t>sing a song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Leelawadee"/>
              <a:ea typeface="Leelawad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28800" y="1676520"/>
            <a:ext cx="5105520" cy="2133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sson 13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88620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How Do You Feel ?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12193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 Black"/>
              </a:rPr>
              <a:t>happ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2666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楷体"/>
                <a:ea typeface="楷体"/>
              </a:rPr>
              <a:t>高兴的； 幸福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47242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 Black"/>
              </a:rPr>
              <a:t>sa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4267080"/>
            <a:ext cx="37335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 Black"/>
              </a:rPr>
              <a:t>难过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 Black"/>
              </a:rPr>
              <a:t>悲伤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58080" y="4343400"/>
            <a:ext cx="308592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2004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col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5257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Arial Black"/>
              </a:rPr>
              <a:t>寒冷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419720" y="25146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909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81080" y="19051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105520" y="1523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057400" y="5410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209680" y="44197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1523880" y="3809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22860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1219320" y="2133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-228600" y="2895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380880" y="2895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0" y="4191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457200" y="5105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586728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3962520" y="42670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6"/>
          <a:stretch/>
        </p:blipFill>
        <p:spPr>
          <a:xfrm>
            <a:off x="4572000" y="3429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7"/>
          <a:stretch/>
        </p:blipFill>
        <p:spPr>
          <a:xfrm>
            <a:off x="6705720" y="4572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8"/>
          <a:stretch/>
        </p:blipFill>
        <p:spPr>
          <a:xfrm>
            <a:off x="5943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>
            <a:off x="693432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0"/>
          <a:stretch/>
        </p:blipFill>
        <p:spPr>
          <a:xfrm>
            <a:off x="426708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3352680" y="4952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2"/>
          <a:stretch/>
        </p:blipFill>
        <p:spPr>
          <a:xfrm>
            <a:off x="2209680" y="25146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3"/>
          <a:stretch/>
        </p:blipFill>
        <p:spPr>
          <a:xfrm>
            <a:off x="914400" y="175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4"/>
          <a:stretch/>
        </p:blipFill>
        <p:spPr>
          <a:xfrm>
            <a:off x="2514600" y="3200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5"/>
          <a:stretch/>
        </p:blipFill>
        <p:spPr>
          <a:xfrm>
            <a:off x="3581280" y="2133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6"/>
          <a:stretch/>
        </p:blipFill>
        <p:spPr>
          <a:xfrm>
            <a:off x="2743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7"/>
          <a:stretch/>
        </p:blipFill>
        <p:spPr>
          <a:xfrm>
            <a:off x="7620120" y="4038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8"/>
          <a:stretch/>
        </p:blipFill>
        <p:spPr>
          <a:xfrm>
            <a:off x="7620120" y="5105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9"/>
          <a:stretch/>
        </p:blipFill>
        <p:spPr>
          <a:xfrm>
            <a:off x="5638680" y="4724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0"/>
          <a:stretch/>
        </p:blipFill>
        <p:spPr>
          <a:xfrm>
            <a:off x="8381880" y="3429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1"/>
          <a:stretch/>
        </p:blipFill>
        <p:spPr>
          <a:xfrm>
            <a:off x="8381880" y="2590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2"/>
          <a:stretch/>
        </p:blipFill>
        <p:spPr>
          <a:xfrm>
            <a:off x="6934320" y="175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3"/>
          <a:stretch/>
        </p:blipFill>
        <p:spPr>
          <a:xfrm>
            <a:off x="6477120" y="2895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4"/>
          <a:stretch/>
        </p:blipFill>
        <p:spPr>
          <a:xfrm>
            <a:off x="7848720" y="21337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19920" y="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entury Gothic"/>
              </a:rPr>
              <a:t>热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h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213372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tir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72428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Arial"/>
              </a:rPr>
              <a:t>疲倦的；厌烦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11430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nstantia"/>
                <a:ea typeface="Malgun Gothic"/>
              </a:rPr>
              <a:t>How do you feel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752480"/>
            <a:ext cx="99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200400"/>
            <a:ext cx="990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7432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ambria"/>
                <a:ea typeface="MS UI Gothic"/>
              </a:rPr>
              <a:t>I  feel  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31520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-457200" y="38862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334120" y="2819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9:18:53Z</dcterms:created>
  <dc:creator>www.xkb1.com; Administrator</dc:creator>
  <dc:description>www.xkb1.com</dc:description>
  <cp:keywords>www.xkb1.com</cp:keywords>
  <dc:language>en-US</dc:language>
  <cp:lastModifiedBy>新课标第一网</cp:lastModifiedBy>
  <dcterms:modified xsi:type="dcterms:W3CDTF">2013-10-10T08:12:23Z</dcterms:modified>
  <cp:revision>10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